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856-0808-492D-B79B-F8FE6ABC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393-AB44-4957-8D1A-53921520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BFF-6283-4B11-9A86-C355370C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C85-4A8E-4EA7-AA36-E7E3DCE3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4D83-2040-46A1-8025-F95D8F65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489C-E614-48FE-9752-2BBEFD6E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3D7C-7176-4620-8930-DBDDCD2C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3397-27C9-43F2-A1C5-9F31B7D4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D96F-7EAC-415D-8838-67A68B5A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4467-0F37-474C-BC72-6F5E2B2A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1CEA-42DF-4707-94D0-E780C624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B24-9142-4DFD-AC1A-61B1B12A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3CB0-9CD8-46B2-84E5-7ECFB143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25AA-088A-4886-89F8-B8DBA6A7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A8B4-B6E3-4A42-AD4D-734CF7F8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561E-CACA-4360-B35C-E2C0C96B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ACBD-7C35-4A04-A15E-718DB27D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8587E-C716-4A5F-BF8E-0138081B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A987-497F-44AB-AC06-3970F823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5A838-51BF-47ED-B981-EE0E08E3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E496A-348A-4878-BD26-BA91D572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52FB9-3848-49F7-A9B9-F9C6575A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638-D726-44DD-BF00-8D43EDE6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8556B-4A2E-4448-ACAF-3ACA8C22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FF6AB-3FE6-4075-8985-235612FA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8E0DE-627F-46AA-99BD-162DCF9D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7D5B-E8F5-4336-857B-126E808A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E0C94-1A9D-47E6-83DB-228CE2B9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243D-AB1A-4FE6-B245-36A0D83E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DB8E-E019-402B-897C-903F003F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8EBE5-3DBE-414E-A206-BD4AC3D0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72E64-7CEF-4DC0-91B7-91FD1F71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0764A-F412-4E45-AD58-9889C2CA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B09-4FBE-452B-85C8-7E592F68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9BB6C-AA62-4F1E-86BD-99A1E2C0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C8DA3-A18A-45BB-A318-F559B5A9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EE7D9-3FE6-4E59-AA64-3811D108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16222-DBEC-41D3-91D8-77ADEB2B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8C7D9-CC9D-455A-B579-2B8A8136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CBDB3-215A-4110-A354-8735EEC9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1A812-107D-48EE-8188-749C375D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9CB4C-9AB6-4B4A-837E-C7AD01B4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98636-8A11-49F7-BA70-2B09102E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F2B4B-D246-4AB6-AB0B-753B30FB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028-EF90-45E2-90EA-EC0CAADE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178AA-57A3-4A37-99F0-37B95466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C0D9C-55E8-4E5C-8E4A-C0EB32CE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EBB45-FBCE-4A99-9E10-14240ADA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C2416-A4BA-4AEE-A1D5-C50D44E9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B7FB0-4388-4DB7-9C51-BEFBB7B7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60A0A-5A36-4525-90AF-8B98BCB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3A885-C95F-4FFD-AC9C-6EF82B3C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4EA43-68D3-42F9-B345-0DEDD9AE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D6063-EEC6-4AAC-9636-25A94614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1364D-143D-4470-A684-3DC97ACB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FC3-43B4-40C0-A94D-62826625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188D1-AEE2-42F5-BF94-9AED3549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25484-B4FF-47C8-9DDE-93A6596B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904DA-B106-4716-8E2F-2FD3B155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16CC6-234C-4EB3-B0A8-9BCF372C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CF529-2BD6-40E1-89F3-B4B0C121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2848E-4E81-4203-8D8E-FFCC57B8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5D953-741A-4D1C-ACF5-3E1F2E7E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F2CDA-4675-476C-8581-3FA170F9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F2AE9-1C6E-4A6D-93A9-AEA12102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341ED-BFAA-46EA-A972-F8E5FF2D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D17-1717-4E87-8583-5A59F5F5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02870-EE10-490F-8B71-BBC9B578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52474-230F-4911-988C-E473A641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97284-8C5F-42DB-A28F-5C36BBD8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5AB80-ED5F-457C-AA6F-2A9FF9C5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1317D-A329-49B7-8D69-1046171F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59B10-BF46-49FA-9177-FAC45318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C2540-3CD3-4536-B243-A1B3FBF2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C06D0-6AFB-423C-8AA9-3DD998DF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AA883-C2D5-47DA-BEE6-177E48DC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6D963-10B5-45CC-8AA4-3B256431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B5A-ECBC-4305-8BFE-CB2C5F2B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E21E7-434A-46FB-97E7-4C0736CD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377E6-A3A4-4040-A21A-F3783EFC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C109A-C5AE-40BC-85A5-9FEB7DEE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D8764-5B50-4643-B2CC-2C87FCC6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5E10B-C40F-47BE-B7BF-00A95D65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BF0-06FC-41A3-A41D-E18D86C3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1FB7-D25D-4CA2-8D14-DD062E3D963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504A-BDF0-45FE-BC80-0ABE2A42FA7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1537-D755-465A-AE2D-A12E8F71513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45DA-3618-4E1E-9BDA-08DB2ACAEA2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FF44-3C32-4AB4-AE8C-89A042461EC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DC03-83EA-4148-9D06-161F3D1A654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245A-DFCA-4B30-9A1A-D9D10605631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y: Octoberia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6" name="Content Placeholder 3" descr="HO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MUNIT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9" name="Content Placeholder 3" descr="COMMUNITIE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1" name="Content Placeholder 3" descr="COMMUNITITES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CHOO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2" name="Content Placeholder 3" descr="CLASSROOM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4" name="Content Placeholder 3" descr="CLASSROOM5.jpg"/>
          <p:cNvPicPr/>
          <p:nvPr/>
        </p:nvPicPr>
        <p:blipFill>
          <a:blip r:embed="rId1"/>
          <a:stretch/>
        </p:blipFill>
        <p:spPr>
          <a:xfrm>
            <a:off x="0" y="0"/>
            <a:ext cx="6730920" cy="4203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LASSROOM4.jpg"/>
          <p:cNvPicPr/>
          <p:nvPr/>
        </p:nvPicPr>
        <p:blipFill>
          <a:blip r:embed="rId2"/>
          <a:stretch/>
        </p:blipFill>
        <p:spPr>
          <a:xfrm>
            <a:off x="5651640" y="3213000"/>
            <a:ext cx="3492360" cy="3645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CLASSROOM1.jpg"/>
          <p:cNvPicPr/>
          <p:nvPr/>
        </p:nvPicPr>
        <p:blipFill>
          <a:blip r:embed="rId3"/>
          <a:stretch/>
        </p:blipFill>
        <p:spPr>
          <a:xfrm>
            <a:off x="0" y="3357720"/>
            <a:ext cx="5715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ORKPLA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WORKPLACE2.jpg"/>
          <p:cNvPicPr/>
          <p:nvPr/>
        </p:nvPicPr>
        <p:blipFill>
          <a:blip r:embed="rId1"/>
          <a:stretch/>
        </p:blipFill>
        <p:spPr>
          <a:xfrm>
            <a:off x="4572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1" name="Content Placeholder 3" descr="WORKPLACE1.jpg"/>
          <p:cNvPicPr/>
          <p:nvPr/>
        </p:nvPicPr>
        <p:blipFill>
          <a:blip r:embed="rId1"/>
          <a:stretch/>
        </p:blipFill>
        <p:spPr>
          <a:xfrm>
            <a:off x="349200" y="1523880"/>
            <a:ext cx="8791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M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4" name="Content Placeholder 3" descr="HOME4.jpg"/>
          <p:cNvPicPr/>
          <p:nvPr/>
        </p:nvPicPr>
        <p:blipFill>
          <a:blip r:embed="rId1"/>
          <a:stretch/>
        </p:blipFill>
        <p:spPr>
          <a:xfrm>
            <a:off x="163440" y="0"/>
            <a:ext cx="898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5:03:16Z</dcterms:created>
  <dc:creator>Imperialdramon</dc:creator>
  <dc:description/>
  <dc:language>en-US</dc:language>
  <cp:lastModifiedBy>user</cp:lastModifiedBy>
  <dcterms:modified xsi:type="dcterms:W3CDTF">2012-07-12T09:47:14Z</dcterms:modified>
  <cp:revision>2</cp:revision>
  <dc:subject/>
  <dc:title>Dehumanization</dc:title>
</cp:coreProperties>
</file>